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46579"/>
        <c:axId val="36701495"/>
      </c:barChart>
      <c:catAx>
        <c:axId val="150465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01495"/>
        <c:crosses val="autoZero"/>
        <c:auto val="1"/>
        <c:lblAlgn val="ctr"/>
        <c:lblOffset val="100"/>
        <c:noMultiLvlLbl val="0"/>
      </c:catAx>
      <c:valAx>
        <c:axId val="367014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465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A204-A48C-46AE-81CD-B2199343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D51-D7FF-4283-95F7-CD0AB0F4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3A9F-2F3E-422C-A3D1-C12ED91B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39A0-8E7B-4699-BCAF-3297D8D6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73E5-BFB8-4C0F-84FA-A34D6255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9EF4-68F4-4FF9-A4A7-0C6080B2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8590-B0AE-40F3-A69F-E469A87F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F7C-2134-4E29-9B98-FD753907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5AF7-AAF7-45CC-A1DD-165D5F72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7377-F8CB-458B-BDFA-6FA9DA22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70D2-5BEB-41D6-8441-0CF41A2A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D78-E4A9-44C4-9702-C5E9CE08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4FD0E-3F26-4197-83C6-C1DA6DA667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