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4260"/>
        <c:axId val="39146340"/>
      </c:barChart>
      <c:catAx>
        <c:axId val="5404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46340"/>
        <c:crosses val="autoZero"/>
        <c:auto val="1"/>
        <c:lblAlgn val="ctr"/>
        <c:lblOffset val="100"/>
        <c:noMultiLvlLbl val="0"/>
      </c:catAx>
      <c:valAx>
        <c:axId val="39146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4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988-DE8F-4474-8698-2FA325F8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E45-5645-4678-B6F9-FA785CA8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08A-D3EE-404E-A715-712B6CDC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5D3-A1FB-49FC-A166-B2F95C66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DDC-A4FB-4E2A-BD03-D2A09C5C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A62-8F2F-41C7-9D42-617039DC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F96-AD91-43AD-BA41-50841EF0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36C-84B3-47F8-AB6C-570444C3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433-161C-4FB4-92B1-9BFE3277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30D-77A3-4121-ACC4-ED78C2EF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97B-D8D4-4F8C-B771-19A232A7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DB8-66E3-4AB2-88D2-44B8B445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F0383-8A8B-43EA-9DFF-05B8BD21DB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