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6545"/>
        <c:axId val="67858706"/>
      </c:barChart>
      <c:catAx>
        <c:axId val="1856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8706"/>
        <c:crosses val="autoZero"/>
        <c:auto val="1"/>
        <c:lblAlgn val="ctr"/>
        <c:lblOffset val="100"/>
        <c:noMultiLvlLbl val="0"/>
      </c:catAx>
      <c:valAx>
        <c:axId val="67858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6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658-98E9-4540-B8D6-AA683BF5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BA0-B8B5-4E8D-B50D-590F7281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6B9-E58A-4392-BD5A-706A75B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65E-952F-4C1D-9347-853CC5B8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6C2-FBA1-4DEE-B1EB-1598C29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27A-31A3-48BD-AA7E-2C7C5B2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C33-2F4E-4BF9-A38C-27F08F6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E9B-AA35-4E7B-8A62-D49BF9B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FD4-8E64-4484-9820-3AE04229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090-8AF1-49C6-8077-A80476F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FC0-C014-40E9-BDCA-DE3C63B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4EE-441A-46CC-B369-AE20F00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ADF9B-373D-40A1-AB5B-A95E02D0B1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