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02712"/>
        <c:axId val="59085427"/>
      </c:barChart>
      <c:catAx>
        <c:axId val="46902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85427"/>
        <c:crosses val="autoZero"/>
        <c:auto val="1"/>
        <c:lblAlgn val="ctr"/>
        <c:lblOffset val="100"/>
        <c:noMultiLvlLbl val="0"/>
      </c:catAx>
      <c:valAx>
        <c:axId val="59085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02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728-B6E9-4179-8AA8-371B4A0F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C23-C7A8-46DE-843E-5A8479A1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AA5-C939-45C8-B605-8B620B1C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7E4-15FD-4282-A258-115CC7BB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500-CC65-4279-BDA1-375A4721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FE3-A14A-4A96-82EF-B593BB03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0C1-C213-4E15-824B-CAB32818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304-205D-4388-BBB7-014B24E1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991-30DE-475B-B852-9781B059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90D-D506-4E09-AB2D-E4F385AB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28A-88F4-489F-BF49-441BE71A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D9D-EE91-4FB6-83AF-C7219A28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E2DE5-9521-4A39-AC71-45B209EF83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