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88707"/>
        <c:axId val="33579965"/>
      </c:barChart>
      <c:catAx>
        <c:axId val="25688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79965"/>
        <c:crosses val="autoZero"/>
        <c:auto val="1"/>
        <c:lblAlgn val="ctr"/>
        <c:lblOffset val="100"/>
        <c:noMultiLvlLbl val="0"/>
      </c:catAx>
      <c:valAx>
        <c:axId val="33579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88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D4B-C141-42A6-B17F-73494811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810-BD25-4D65-892E-530C241F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260-052C-486D-981D-DAAAE831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922-92C4-4B60-B0FD-7B2B2651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438-B450-4471-B581-D8A43A14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E17-CCEE-4F84-BEB6-5E005074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699-75BB-4862-80A3-8D80C390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DFF-A947-4BDA-ABE3-BC65DFC7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F3E-70CF-4E5F-B6E9-2D3E282F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B79-66F0-4BF1-AA6E-E4C92FB0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A3A-EA06-40F9-A9F7-154ED18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270-973F-49E5-A8BB-A086FB0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185B7-7D87-48C8-95D6-67B38DDA1C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