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43490"/>
        <c:axId val="63204915"/>
      </c:barChart>
      <c:catAx>
        <c:axId val="51443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4915"/>
        <c:crosses val="autoZero"/>
        <c:auto val="1"/>
        <c:lblAlgn val="ctr"/>
        <c:lblOffset val="100"/>
        <c:noMultiLvlLbl val="0"/>
      </c:catAx>
      <c:valAx>
        <c:axId val="63204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3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D2B-6FE1-43BC-99C0-AF24274E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66D-9102-41B8-B8BF-6B18257B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7C8-B09C-4441-9911-6E3621CA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A83-2181-4FCC-8A21-7AF05E40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9CF-DB58-4081-9D09-F2B5AD7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3AA-A1A0-416E-A521-C711C8E6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D08-BFA1-436B-B452-C3B9951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E79-DCA3-4E6C-BEFB-58C8E5F3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6D0-B968-4A95-8571-83FC156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FB1-6C7E-47CB-9EBD-26C791A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358-3710-489A-A5A6-F66C8BF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C7F-AECD-4FB5-8613-1079A40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2D5E2-AA37-42CC-957A-DA433D0FA9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