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76156"/>
        <c:axId val="84244872"/>
      </c:barChart>
      <c:catAx>
        <c:axId val="72776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44872"/>
        <c:crosses val="autoZero"/>
        <c:auto val="1"/>
        <c:lblAlgn val="ctr"/>
        <c:lblOffset val="100"/>
        <c:noMultiLvlLbl val="0"/>
      </c:catAx>
      <c:valAx>
        <c:axId val="84244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76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543-6AAD-4220-AECE-7F678A55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75A-8BCF-4F7C-A333-87BB7A11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ACA-AD3A-4A26-8A84-EADD3E7F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3762-7634-43B1-A692-95231612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678-AC26-448B-B837-4383A256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32E-31CC-409A-B1CE-4C66A050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F5C-98B2-4E4E-87E4-D9BA71D7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987E-7F09-4C6C-85B6-5EF065D3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A4-41BD-4F9A-BF29-CA288B8D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136-800C-4066-B068-73792B7B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5D85-3666-411F-A777-83FA4DA0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7EE-FB40-4797-87F1-79CDF0B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9D5EAA-69C8-4474-B171-9FE820548A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