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00720"/>
        <c:axId val="11192353"/>
      </c:barChart>
      <c:catAx>
        <c:axId val="77300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2353"/>
        <c:crosses val="autoZero"/>
        <c:auto val="1"/>
        <c:lblAlgn val="ctr"/>
        <c:lblOffset val="100"/>
        <c:noMultiLvlLbl val="0"/>
      </c:catAx>
      <c:valAx>
        <c:axId val="11192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0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8F6-ED9A-449A-9CEE-33A3F11C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C57-DC14-48FB-A32D-6DA83E2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F05-8F73-41E9-B014-7D2BCDF8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94F-146E-492C-9C8D-53796C2D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E33-489C-4940-82F1-895DA10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ED2-1745-426D-AF7E-8DC70AE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123-4879-4A0C-A34D-E8BEBE7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EDC-8449-4E3A-8710-BDB81DD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C66-C21F-4E2E-830A-47203ED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C5F-4F1E-4752-BCC8-CDDC28D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C25-945B-488D-9CD8-4AE5703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44C-94DF-4737-9DC0-C5C13B2F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C4464-12AD-411B-B26B-CA192CFC4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