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2660482"/>
        <c:axId val="4327140"/>
      </c:barChart>
      <c:catAx>
        <c:axId val="7266048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327140"/>
        <c:crosses val="autoZero"/>
        <c:auto val="1"/>
        <c:lblAlgn val="ctr"/>
        <c:lblOffset val="100"/>
        <c:noMultiLvlLbl val="0"/>
      </c:catAx>
      <c:valAx>
        <c:axId val="432714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266048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A23E6-90BE-417D-9C4B-BC0D5830A2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BD231-CD17-4946-9CBB-DC26AC847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7861D-8CCA-4652-86C4-A74EFEC0C6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2CB34-A841-47B7-BE96-2D48541B56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F5080-31D4-4534-9FF7-A438BD104D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2FA25-698B-4FC7-BAC4-0F187654A3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2311E-8FFE-4DEA-8CFF-030E869B7A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C7419-29BE-4DA8-8D0D-AAFB7924A3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71AED-6BC4-446F-A9E4-D7F41FDC36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C82DE-4E1A-4A49-AC1B-525411EC07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7B17D-0B4F-4B75-87B5-13167C36E5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6802E-4F29-43C0-A95D-DDC8D9621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AE4F796-6471-40C8-89CC-1F1BB5B4247A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