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00888"/>
        <c:axId val="86916212"/>
      </c:barChart>
      <c:catAx>
        <c:axId val="22200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6212"/>
        <c:crosses val="autoZero"/>
        <c:auto val="1"/>
        <c:lblAlgn val="ctr"/>
        <c:lblOffset val="100"/>
        <c:noMultiLvlLbl val="0"/>
      </c:catAx>
      <c:valAx>
        <c:axId val="86916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0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41F-8FE5-44B4-9BC3-6DE0816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30E-548F-47B8-A022-1F533F6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86-4AD5-4A02-A0A3-934545DD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793-849D-434E-96D1-F349A3FA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BD3-D211-4B7D-8806-21A9CD4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884-EC6B-4FEB-A5D7-00B0181F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82D-BCA3-4915-8D9C-F00120B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1FB-5451-4B56-8AB4-E1993E93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85A-48EF-423C-8083-3F862E5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9C7-2C7A-417E-B617-F5A0C0F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B78-70CE-44BB-BDAE-D9B41B5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66E-C45F-4B27-8D76-AA125BE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84080-A8ED-4BC7-9301-1FD3CD8965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