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61337"/>
        <c:axId val="59507946"/>
      </c:barChart>
      <c:catAx>
        <c:axId val="46661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07946"/>
        <c:crosses val="autoZero"/>
        <c:auto val="1"/>
        <c:lblAlgn val="ctr"/>
        <c:lblOffset val="100"/>
        <c:noMultiLvlLbl val="0"/>
      </c:catAx>
      <c:valAx>
        <c:axId val="59507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1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1EC-AE57-48BF-B892-EF61F05F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8A6-B1F3-41C0-BF06-A4CAFF0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D72-DBCB-4AD3-8EA8-175ECB63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2A3-AF0A-41C1-8196-B7E3756A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0DC-73A6-43BA-8CFF-CD3CF74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A2F-3689-4B57-9508-9AFB1AB0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730-1BCA-40EB-B49F-E0B7248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664-75CF-4780-B1D5-0415562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5F6-AF9A-4432-8E58-44855E6E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DD5-77EA-4AC5-9FB1-BD1BCE6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AD6-99EC-4931-BD2D-6972F5D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50C-22C1-45BD-9DC3-8136EF06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9DB29-5F23-4561-9F26-7C4CDA75F4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