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59465"/>
        <c:axId val="45140321"/>
      </c:barChart>
      <c:catAx>
        <c:axId val="34159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40321"/>
        <c:crosses val="autoZero"/>
        <c:auto val="1"/>
        <c:lblAlgn val="ctr"/>
        <c:lblOffset val="100"/>
        <c:noMultiLvlLbl val="0"/>
      </c:catAx>
      <c:valAx>
        <c:axId val="45140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59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E6D-B5A2-419E-9B02-6B19A961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417-8046-4020-883B-A705DAA1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27F-14B0-4900-AB17-9C03B32C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A2D-7677-4D79-B97C-F48E6E01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9DD-261B-4123-B8E5-AB472A3C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176-E46B-4B5E-B63A-59BDC882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FC9-2F9C-47CD-AB36-031E3342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774-9F35-46A5-A2A6-9709278C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F33-9D63-4DCB-A139-A0A166D9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C5F-9A47-41C4-B288-59C9DF36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E9D-DFE5-46F7-B3CC-483614BC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AAB-8CDB-453D-93CE-979B1BB6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CC827-3F46-4417-AF87-79E1BDF20C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