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07078"/>
        <c:axId val="36210910"/>
      </c:barChart>
      <c:catAx>
        <c:axId val="26207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10910"/>
        <c:crosses val="autoZero"/>
        <c:auto val="1"/>
        <c:lblAlgn val="ctr"/>
        <c:lblOffset val="100"/>
        <c:noMultiLvlLbl val="0"/>
      </c:catAx>
      <c:valAx>
        <c:axId val="36210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07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072-1C85-447D-8610-CA1A4DB2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043-1EE5-4B77-A059-A62620C2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C3E-665D-4908-B173-5BDAF42C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621-A37A-42FD-B7BE-428C4013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78D-7F2B-486A-ABB0-79DC7AB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526-872A-407B-9FDC-2BFADE42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6F7-855C-44BD-B929-E6D1936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4C0-DBB5-41A0-8F14-2DBE86F6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9B6-D182-4D95-ADE8-3554D01F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DD7-8FF1-4930-A9BB-BDE05078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598-3D6E-49CD-BD85-C99698C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83B-1A4A-4596-8D00-730C4387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4E489-3C08-4150-A8E2-72CE6EE45D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