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43277"/>
        <c:axId val="55633462"/>
      </c:barChart>
      <c:catAx>
        <c:axId val="98343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3462"/>
        <c:crosses val="autoZero"/>
        <c:auto val="1"/>
        <c:lblAlgn val="ctr"/>
        <c:lblOffset val="100"/>
        <c:noMultiLvlLbl val="0"/>
      </c:catAx>
      <c:valAx>
        <c:axId val="55633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43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0A7-56DF-4618-83F1-EA4E59F3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267-312C-4B60-9F4B-A1E52F4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8DB-9501-4A2A-BA12-4430ED39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728-CB2F-4B36-8C4C-3B8815D4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0E-A28F-4E8A-9F06-16233072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4A0-8319-4320-AD1E-9DC49231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958-F51F-4340-9BFC-545722F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2FE-65F3-477E-AD99-4299C19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689-EDE3-4F5F-A29C-1699998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2BD-3CC9-4B94-822A-02AF3DC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DFF-7A40-484D-B930-2D7D9BE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ED2-B281-4A65-A78B-311E1330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FA7A3-BD36-45D9-ACD2-614BB8C0B1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