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420674"/>
        <c:axId val="70844836"/>
      </c:barChart>
      <c:catAx>
        <c:axId val="634206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44836"/>
        <c:crosses val="autoZero"/>
        <c:auto val="1"/>
        <c:lblAlgn val="ctr"/>
        <c:lblOffset val="100"/>
        <c:noMultiLvlLbl val="0"/>
      </c:catAx>
      <c:valAx>
        <c:axId val="708448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206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8676-5673-47E8-90AE-70D7F941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6C0B-B477-47CE-A220-3980FA1D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DE31-4D6E-468E-91D2-AFE537C2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15BB-A67B-45C7-9AD4-5104434D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A595-ABE4-4022-AFDB-EBB23D93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EF00-C052-44C6-BE3C-554F8294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2B3F-C72F-4B84-933C-ECA080EC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55BF-F461-4294-8A5D-C204B0F3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BF3C-D7BC-409E-BDC4-26DFB24F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F8AF-F438-42F7-B077-B378B658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3BD1-4853-4DFD-AAF8-47BCEAC1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A38D-4AB9-4A41-AF64-A1D80924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A4FA9-0C59-4BD5-AC57-179A8E2926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