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8715102"/>
        <c:axId val="85702457"/>
      </c:barChart>
      <c:catAx>
        <c:axId val="6871510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702457"/>
        <c:crosses val="autoZero"/>
        <c:auto val="1"/>
        <c:lblAlgn val="ctr"/>
        <c:lblOffset val="100"/>
        <c:noMultiLvlLbl val="0"/>
      </c:catAx>
      <c:valAx>
        <c:axId val="8570245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71510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DA30D-9F81-47B6-A9ED-D564E7FCE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D684A-4D13-438A-8146-E283E198A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50F8F-055C-465E-8DFD-E3356C5F6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957FB-F0FA-45A6-9C0B-3548BF986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40D45-00FA-4A9B-AB03-774437E08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5E082-EA91-4FB3-926A-17F7DFFB2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8305F-05C2-4FBC-B2ED-004B83A36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1B82E-D968-4FCB-B77A-B4CBF5D82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0DFEF-A132-4211-8E3E-5555B031F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9173B-C825-4B1E-BC51-BACD76E0F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1DAE3-2ED9-4553-A41F-9E9AC7DFD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B1CDC-F76C-487D-B1B7-62BC4D98C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48956F-AAA8-40A5-909C-6E9F6E8443A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