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48800"/>
        <c:axId val="41863051"/>
      </c:barChart>
      <c:catAx>
        <c:axId val="89648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63051"/>
        <c:crosses val="autoZero"/>
        <c:auto val="1"/>
        <c:lblAlgn val="ctr"/>
        <c:lblOffset val="100"/>
        <c:noMultiLvlLbl val="0"/>
      </c:catAx>
      <c:valAx>
        <c:axId val="41863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48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27F-CB41-4505-B348-32E46D18B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062-FEF8-463F-873A-FE9DCE2F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259-B9C9-4AFA-93A7-3660D752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5CF-1B31-4B5F-B8EE-1B9B34E5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229-CB25-4AB4-BBE6-32D81593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339-9BDD-4EE8-BFE1-EF5C65C1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C3D-C384-42C4-813B-82B153EB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3A7-9BE3-4890-AE61-0E95B03A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584-0D41-4DFD-B38F-5F80143D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A59-DB8A-4777-8A37-0E6D4EEB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7F1-6CF9-428E-9984-C0839B99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492-AAA1-4820-8E00-4BB6B991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93987-84EF-4038-8963-E78DB0F557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