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5629507"/>
        <c:axId val="45835424"/>
      </c:barChart>
      <c:catAx>
        <c:axId val="6562950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5835424"/>
        <c:crosses val="autoZero"/>
        <c:auto val="1"/>
        <c:lblAlgn val="ctr"/>
        <c:lblOffset val="100"/>
        <c:noMultiLvlLbl val="0"/>
      </c:catAx>
      <c:valAx>
        <c:axId val="4583542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562950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E6B22-07F9-4D7E-9021-447C9293C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A8D2E-B4BA-423F-A39E-210F94FED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A214F-EC98-4FDB-8B1C-98DE3FF96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2D409-DCF9-4EF5-8050-2555261B7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D7FE1-210F-467A-AB8D-89C194367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FD077-B509-43C9-B3CC-2677E7B2F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F48BC-AB28-4165-AF63-63C176DF1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D2F9B-EFBD-46B5-8053-017F74A95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C9C77-8DE9-4374-A3BF-E69A915A6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C01B9-744A-4439-A139-24A12355C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6A6D0-050E-415E-A1EC-7F725737C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30065-136F-4411-B66C-5592B3001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14AEC3-D984-448E-A930-31538B84A53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