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09221"/>
        <c:axId val="42921432"/>
      </c:barChart>
      <c:catAx>
        <c:axId val="47709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21432"/>
        <c:crosses val="autoZero"/>
        <c:auto val="1"/>
        <c:lblAlgn val="ctr"/>
        <c:lblOffset val="100"/>
        <c:noMultiLvlLbl val="0"/>
      </c:catAx>
      <c:valAx>
        <c:axId val="42921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09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EE6-98BF-40E2-B772-2E69189A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61C-46D9-4A90-BBFF-187E7535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B17-9B79-4F37-8B7F-7AE86F2F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E8D-4A40-423E-840A-AB3C89E0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A3E-C141-4D7B-9D89-BA9FA001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4E7-277A-4CD9-B853-D26DAEF4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DDA-9760-443C-9C0D-7B7EB4F0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DED-C626-4A2C-9EE2-BF54F311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454D-DAED-425B-912A-C7EF79E0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FE8-2117-4C17-ABA2-B9013212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EA9-C0AF-4E41-8EB1-EDBE119A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A17-848B-4741-B1AD-B03ED6A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80AC1-BA82-4904-B24E-9E2EBDF2B7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