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587330"/>
        <c:axId val="83459961"/>
      </c:barChart>
      <c:catAx>
        <c:axId val="29587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59961"/>
        <c:crosses val="autoZero"/>
        <c:auto val="1"/>
        <c:lblAlgn val="ctr"/>
        <c:lblOffset val="100"/>
        <c:noMultiLvlLbl val="0"/>
      </c:catAx>
      <c:valAx>
        <c:axId val="834599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87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EB8D-8A22-429D-B144-C1B3CF1C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9E66-35F5-4BFF-A00D-82745524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E244-CE83-428B-879A-2300C051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2A43-6ABB-4612-996B-8C6EF214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7328-282D-4BC6-BE26-F5C931CF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A2D4-B869-418E-A1DC-515E6A97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5061-2392-48C3-A2A0-9036184E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4BB3-1804-46C4-A41C-15D62830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D530-5F28-4F0E-8B56-B36E6B1A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975A-FBB4-48DB-A07A-9C85E922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32B7-97D1-4B9B-8760-62B36A21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D0C1-CB1D-4265-9B9D-D781FBC2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4CF9B-5260-44E8-A94D-C88B905565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