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00890"/>
        <c:axId val="36537531"/>
      </c:barChart>
      <c:catAx>
        <c:axId val="29800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37531"/>
        <c:crosses val="autoZero"/>
        <c:auto val="1"/>
        <c:lblAlgn val="ctr"/>
        <c:lblOffset val="100"/>
        <c:noMultiLvlLbl val="0"/>
      </c:catAx>
      <c:valAx>
        <c:axId val="36537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00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95A-8513-45C7-B26C-6C295B86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419-C887-46A6-9F76-8A46612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F62-32CA-450B-8E4A-4BD5D80F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AEE-3DBE-4F4F-96AB-4A0B110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1ED-1FF5-44DD-AE0C-A11936E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67B-8EB9-44AE-8994-65E1C1BD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698-B747-43B6-8643-F0F17426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74A-A203-4884-AB54-75947B36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ACE-48C3-4031-950F-0327E7E5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B3A-BFE5-483E-8380-E6250F37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07E-6ABA-4585-9430-E0772A4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20A-767D-4700-BE08-8A76659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A42FF-90F4-42DD-BDAD-149E9AF35D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