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58246"/>
        <c:axId val="44353645"/>
      </c:barChart>
      <c:catAx>
        <c:axId val="53458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53645"/>
        <c:crosses val="autoZero"/>
        <c:auto val="1"/>
        <c:lblAlgn val="ctr"/>
        <c:lblOffset val="100"/>
        <c:noMultiLvlLbl val="0"/>
      </c:catAx>
      <c:valAx>
        <c:axId val="44353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58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A5C-5474-4720-BD6F-294EE397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68C-7A0A-4BBE-8482-E564C1FF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927-8EBE-4E90-842A-7E1C308B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EF5-7942-4213-8E4B-898E824B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E7B-A53C-477E-8AEE-C4BA2C39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C7C-A5D7-48EF-81D7-A968F419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300-7E6B-4860-B071-957FB5F1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813-008B-4047-8848-507F707C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6B2-AB04-40CC-BC5A-2E5590E2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DCF-9891-427F-AD9A-D0331593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FB7-CFBC-473A-A8C2-51274068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A76-7ACA-44B7-88B9-9DB99C2A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364FD-FE0E-4FAF-9864-608D1D70A3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