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63107"/>
        <c:axId val="29154309"/>
      </c:barChart>
      <c:catAx>
        <c:axId val="36963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54309"/>
        <c:crosses val="autoZero"/>
        <c:auto val="1"/>
        <c:lblAlgn val="ctr"/>
        <c:lblOffset val="100"/>
        <c:noMultiLvlLbl val="0"/>
      </c:catAx>
      <c:valAx>
        <c:axId val="29154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63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203-F3AE-49BA-B782-2BE9C99F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A79-0817-4FBD-AA85-2FD23815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AD1-08F5-4A54-8417-316E6C1F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AF7-8C20-4238-B9AC-20EA95AB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097-8105-4819-9E0E-12DFF07E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D75-F61E-4952-B13B-67ABBAB1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E27-F60A-4AFD-8D49-76865B52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40E-50AA-4727-B40F-836F87A1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FCD-468B-4080-9896-2D38563E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41C-E91A-4A05-9EB6-D138AC1C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401-A2D5-4116-911E-33613BF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1F7-FD22-4D46-804A-12FAB468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7E72C-21FF-4DBC-B4BC-91171D71A9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