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73705"/>
        <c:axId val="29969208"/>
      </c:barChart>
      <c:catAx>
        <c:axId val="990737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69208"/>
        <c:crosses val="autoZero"/>
        <c:auto val="1"/>
        <c:lblAlgn val="ctr"/>
        <c:lblOffset val="100"/>
        <c:noMultiLvlLbl val="0"/>
      </c:catAx>
      <c:valAx>
        <c:axId val="299692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737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98EF-AD65-47A0-9D92-3E839BFA4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18D-28EC-43B1-86CD-7342563F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8CE8-9BAF-41B9-95B8-E08DC192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BB6C-3CE2-4B7F-A21E-BBA5030C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C30B-7F88-4F7A-AB41-A6268A33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AD83-9794-42C0-9655-B2986E13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40BC-43B9-49A5-B750-2761DAA0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502-7EF6-426A-92EE-DE014F80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FF2A-ABEF-41D6-8CA2-D6925355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0515-DF58-4787-A558-BC011FBE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CBEF-8A53-40D7-9836-3C40262D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84F-929F-4530-8F11-7005C517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F9A3C-1297-4FBD-A2AA-418D412A25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