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470468"/>
        <c:axId val="98250379"/>
      </c:barChart>
      <c:catAx>
        <c:axId val="834704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250379"/>
        <c:crosses val="autoZero"/>
        <c:auto val="1"/>
        <c:lblAlgn val="ctr"/>
        <c:lblOffset val="100"/>
        <c:noMultiLvlLbl val="0"/>
      </c:catAx>
      <c:valAx>
        <c:axId val="982503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4704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E1F8-62C8-4E93-ADBD-D0E3A15F5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627B-1936-4B93-94CB-CF3E7E4A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8F71-AEC0-4C38-8F25-B37E99425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C889-C839-4DCA-A8A8-6B9BC4EF7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12C0-37BB-4EC9-A26D-68256861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01A7-68E8-4434-A89A-E3987594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089B-451A-441E-8E3F-F1ADDD0E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C5D4-69C8-4EFB-8B8D-7B5FCE4A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A030-42C3-4AF2-9C57-BAE30695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2B38-15D2-4A5F-BF87-30257DA5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3A79-C6F2-47F4-BC3E-931D36C6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2F3F-E1E6-4349-B6C4-69B0FB1E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FBA62A-9C0C-4FBF-876E-515B4E24F6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