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506753"/>
        <c:axId val="91073891"/>
      </c:barChart>
      <c:catAx>
        <c:axId val="125067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073891"/>
        <c:crosses val="autoZero"/>
        <c:auto val="1"/>
        <c:lblAlgn val="ctr"/>
        <c:lblOffset val="100"/>
        <c:noMultiLvlLbl val="0"/>
      </c:catAx>
      <c:valAx>
        <c:axId val="910738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067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74C7-C781-45F4-A5AE-A0BC6E6E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B9F-A027-4089-AD21-06CFC52B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912-A9DE-4B88-9577-15523F594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AAF3-C14E-4916-8C60-1AB64BAA9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8DC-ED32-4677-AC72-B3BB4B854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7DAF-317D-4C03-9371-1893E1FE4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8BA9-0558-4651-BE4F-210D3B2FA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D68-1DB9-4043-AD53-B44310EB9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247C-2B13-45B2-965C-17D6BE8CF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3DCB-AE93-4029-8A7C-D3B27FF7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637-1AB7-40D2-B4A8-79F6F7BA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5505-F982-4F45-B13A-AC97E6D3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BD2AAF-B35F-4C40-AB0B-578C7743BF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