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641082"/>
        <c:axId val="78653003"/>
      </c:barChart>
      <c:catAx>
        <c:axId val="416410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653003"/>
        <c:crosses val="autoZero"/>
        <c:auto val="1"/>
        <c:lblAlgn val="ctr"/>
        <c:lblOffset val="100"/>
        <c:noMultiLvlLbl val="0"/>
      </c:catAx>
      <c:valAx>
        <c:axId val="786530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410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9ABD-DF2C-4765-B659-CAC14C46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B8B3-7BEF-4A1D-AC88-12F39186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22AA-8ABF-43D2-B8B5-33CFB8C7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A438-D18F-4D3D-A73E-DE0FA17EA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599E-7960-4B28-AA80-8413103A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9429-7F62-48E9-B571-1D44BD1F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6F99-D036-43A5-A75F-CFF7AB12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538E-941B-4FC2-B889-5925645D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3020-A9AC-4DBD-A0F4-4C375522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80E7-6A04-4AC2-833B-5E44878A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0F69-6511-4A05-972E-1DC3DAAE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D014-62BF-4CF9-837F-1E4BCAD5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6407D-4676-42FE-970B-BC5EA068C8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