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1139"/>
        <c:axId val="6097911"/>
      </c:barChart>
      <c:catAx>
        <c:axId val="3461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911"/>
        <c:crosses val="autoZero"/>
        <c:auto val="1"/>
        <c:lblAlgn val="ctr"/>
        <c:lblOffset val="100"/>
        <c:noMultiLvlLbl val="0"/>
      </c:catAx>
      <c:valAx>
        <c:axId val="6097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1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56A-DA50-4FDE-80D0-173955E7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D6B-B397-40B2-8103-28A2D6B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529-9E99-4790-A49A-F3398F49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CFE-DDF3-4F07-B37F-45865DD3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E30-C28B-4F87-8CFD-031A2D85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F3B-4107-4346-B3BB-813BF074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303-7D5B-4CA7-B535-888DD98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C48-E59C-4C10-B00D-FA561F16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43C-5582-42C0-9214-D281EA7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54A-B73B-4F92-AE02-8414F67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2D8-9492-4953-A7E9-669FD6B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661-9A05-4B1B-93DA-D81B11C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DE4BD-4778-48F8-95C9-A0B1131AB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