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13894"/>
        <c:axId val="94072073"/>
      </c:barChart>
      <c:catAx>
        <c:axId val="63913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72073"/>
        <c:crosses val="autoZero"/>
        <c:auto val="1"/>
        <c:lblAlgn val="ctr"/>
        <c:lblOffset val="100"/>
        <c:noMultiLvlLbl val="0"/>
      </c:catAx>
      <c:valAx>
        <c:axId val="94072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13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0FE-9105-45C8-BFCA-EE1EFD9B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874-E004-41C3-BBA2-0C1981C1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C6F-40A5-455C-9025-5CFD614A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373-BE96-4D2F-BBB8-D3D34B67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915-0667-48A4-923A-3CD358F6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44F-7E8E-4DDC-966C-EFD36E72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EA90-5860-4FE2-A6D8-7C973F85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1E6-DDAC-43CD-83D0-422C355F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5B8-510E-4B9E-A320-04187301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ADE-B0CD-436B-BB0B-6E00670E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006-CE1F-4889-8270-70D3FF6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57D-3478-4AE3-8E04-7C7D72B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BDABD-E945-4D77-BB27-8BC64DE858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