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93986"/>
        <c:axId val="70435777"/>
      </c:barChart>
      <c:catAx>
        <c:axId val="30993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35777"/>
        <c:crosses val="autoZero"/>
        <c:auto val="1"/>
        <c:lblAlgn val="ctr"/>
        <c:lblOffset val="100"/>
        <c:noMultiLvlLbl val="0"/>
      </c:catAx>
      <c:valAx>
        <c:axId val="70435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93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1E9-BB1E-4B17-972A-C8EFC835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E60-46BD-48DA-9879-63C2C4A6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03A-83CB-452E-B7B6-A62E4CEC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E21-02A2-40BD-9374-E108D859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8E9-F551-4DEA-B015-6E8FB0CE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CE1-F208-4EAB-958E-1948757C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220-DF83-4A8A-B7BE-2CD60215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AA9-704E-4F66-B27F-67AE1233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E94-EAE2-4AFB-BD64-9F8DDD80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55A-CFEA-4A7D-968C-341DC124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537-4A07-4CE2-9FE6-319E1565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150-E66B-41C9-87B2-F6F58ED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4B2C9-FB9A-4CD1-AE02-534FAE4FC0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