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65629"/>
        <c:axId val="69267523"/>
      </c:barChart>
      <c:catAx>
        <c:axId val="30865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67523"/>
        <c:crosses val="autoZero"/>
        <c:auto val="1"/>
        <c:lblAlgn val="ctr"/>
        <c:lblOffset val="100"/>
        <c:noMultiLvlLbl val="0"/>
      </c:catAx>
      <c:valAx>
        <c:axId val="69267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65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3E1-2FE8-44B3-8B39-13D64557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481-9E64-4F6D-A642-A636A190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414-E761-4537-B92F-E1C92828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6E2-4032-4EE2-8070-9008B7E9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CAE-0041-44EE-8E28-4C0A842D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4C7-EC9B-4764-B523-608CFCAE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9BB-F94E-430A-AEA0-064FF163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C73-EEC3-4CCB-8C6F-F20C9FE1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1C4-443E-43B9-B6BF-D473BF01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8FB-4FEA-4E02-9DEA-48FB61F4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E13-2BC9-480B-9E5C-88EA6687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855-F87C-4372-B604-E5B456EF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F570C-B4E6-4CD6-8797-071A7059A5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