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1902"/>
        <c:axId val="97680632"/>
      </c:barChart>
      <c:catAx>
        <c:axId val="5761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0632"/>
        <c:crosses val="autoZero"/>
        <c:auto val="1"/>
        <c:lblAlgn val="ctr"/>
        <c:lblOffset val="100"/>
        <c:noMultiLvlLbl val="0"/>
      </c:catAx>
      <c:valAx>
        <c:axId val="97680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1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4E3-0383-466A-8F98-9236213F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FF5-D42A-47B7-A276-B25834D1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1E3B-4F41-4CEB-BFAD-12117DD1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684-8D30-43F4-8114-260F5FA4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3ED-2A33-4474-8DC9-F78B6DC6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6DC-53EB-446E-894A-5D2DCEC9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777-8B3A-4B7C-883D-56A702FB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EC0-E511-4960-BCAE-7A437F54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667-B5BA-4800-BD6A-C3116CB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19F-3B90-40AB-B3F4-630A18C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07F-156D-42B1-95D3-7DD80FAB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B49-0369-4231-B023-4F106C5D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7D5D3-44DE-4B66-BFD6-7E0AF4CA87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