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6848196"/>
        <c:axId val="65578986"/>
      </c:barChart>
      <c:catAx>
        <c:axId val="7684819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578986"/>
        <c:crosses val="autoZero"/>
        <c:auto val="1"/>
        <c:lblAlgn val="ctr"/>
        <c:lblOffset val="100"/>
        <c:noMultiLvlLbl val="0"/>
      </c:catAx>
      <c:valAx>
        <c:axId val="6557898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84819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31E1E-2EE1-4088-9BC6-CEEE1712B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B02EA-AC8C-451C-AA42-BD0800F73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967B9-55DF-4663-AC6E-F2E5F8AB9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341B1-246E-417E-9CD2-9FA0DB660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DB14B-38FB-476E-8E7A-D4ADED8D8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31B2B-109F-44F6-8114-7D89F2981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61C58-8174-4589-9321-012E12F4B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CD15C-A410-4C3D-B94D-DC6C2435F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80930-3BF9-47D9-A416-3F77C049C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36E71-A763-478B-B39E-CA284FFF9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E614B-D792-43DA-8EFC-97A359741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03A73-3564-4879-A519-7E2F09B2E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9A15E7-1DFA-40E3-AE44-FB7CAFEA419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