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98430"/>
        <c:axId val="76834202"/>
      </c:barChart>
      <c:catAx>
        <c:axId val="47398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34202"/>
        <c:crosses val="autoZero"/>
        <c:auto val="1"/>
        <c:lblAlgn val="ctr"/>
        <c:lblOffset val="100"/>
        <c:noMultiLvlLbl val="0"/>
      </c:catAx>
      <c:valAx>
        <c:axId val="76834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98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23E-07DC-40BD-8D18-BB46B8E1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D26-44DD-4A81-B5F2-AFF98999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626-CFF5-436B-9486-67F70BB9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892-3CE2-4B53-BDB6-563965ED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19D-0CC0-4147-B18E-A0049276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367-64E4-472E-B8FD-69549388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29C-0EBE-47FC-901D-569C8ED9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AC1-6F27-448E-B610-9AAD5DCE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E33-173C-4BC1-AE71-E4007611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565-E365-4F20-B2E1-7C673185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6FE-085D-40C8-875C-5061EB29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C4A-888A-433F-BCD6-077C52CF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DCB13-E9FD-4A17-BD5F-1D7DC308FB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