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31216"/>
        <c:axId val="41483666"/>
      </c:barChart>
      <c:catAx>
        <c:axId val="26831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3666"/>
        <c:crosses val="autoZero"/>
        <c:auto val="1"/>
        <c:lblAlgn val="ctr"/>
        <c:lblOffset val="100"/>
        <c:noMultiLvlLbl val="0"/>
      </c:catAx>
      <c:valAx>
        <c:axId val="41483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31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FC8-8D2D-455A-B015-6092BBF1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FCC-75DD-49BD-9596-C5618683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592-7538-492D-A042-DEA6275F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6B2-9078-4E96-9716-4D9E012A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2A9-0BD7-4B61-A870-0CA38E0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CEC-7932-4425-B63A-7182ACCA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A22-938C-45F9-9EB5-5930325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BAA-6B74-4C92-9EB4-FF884A2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063-9401-498E-8E09-D651B8E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949-6826-4A52-B49B-5FB42CE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479-6EB2-4CC0-A1FE-3B937F1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79D-EBC5-4A50-BC73-97891AD8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0E254-E8D2-448D-8609-C45E963E0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