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40964"/>
        <c:axId val="48678251"/>
      </c:barChart>
      <c:catAx>
        <c:axId val="85340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78251"/>
        <c:crosses val="autoZero"/>
        <c:auto val="1"/>
        <c:lblAlgn val="ctr"/>
        <c:lblOffset val="100"/>
        <c:noMultiLvlLbl val="0"/>
      </c:catAx>
      <c:valAx>
        <c:axId val="486782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40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8C18-79E4-4357-B3A9-6E323F17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F92-2141-47EF-9158-00B2A65F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ACB-81CA-4CBB-8CD5-82967FCB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8392-0E40-42F1-8055-5C58C3E7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928-1368-484B-B025-E2979A9B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503D-0147-45C0-B264-6680B7D9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424-E5BE-4F40-A7EB-64EEFD24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E127-CC49-4E49-BF98-C4BDEC30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1C9-16D2-441D-ABB8-1AAD509A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9AD-FEA4-4DAA-AD45-D69D7651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B19A-B86D-4689-B9DB-2C6F3471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C27-870F-447F-86D4-60FFF2CF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941AC-3110-45EA-84FC-6E55E461CD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