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56569"/>
        <c:axId val="67431408"/>
      </c:barChart>
      <c:catAx>
        <c:axId val="53756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31408"/>
        <c:crosses val="autoZero"/>
        <c:auto val="1"/>
        <c:lblAlgn val="ctr"/>
        <c:lblOffset val="100"/>
        <c:noMultiLvlLbl val="0"/>
      </c:catAx>
      <c:valAx>
        <c:axId val="67431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56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173-50B3-46E7-8DFD-A21013FA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3C0-BED5-422F-9775-DBF4EAB2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7E5-68C1-41C6-8919-101626B0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3B9-30D3-4EB2-96B2-33B6C6A0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FE9-B63D-468F-82BB-CF4AD63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7CC-DC4C-4005-908C-B601FD65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080-5ACA-4ABB-9B4A-F0908E5B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C1D-506B-487F-9D83-25502C40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188-1BF0-4882-B62D-5B98B5DE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973-B698-44F8-B7A6-074825C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580-9490-46AB-AC86-C1B04D1A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105-B77C-4417-8D91-81A71635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ACE44-A0F9-4CDD-A580-84994F1B0B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