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9082"/>
        <c:axId val="84309498"/>
      </c:barChart>
      <c:catAx>
        <c:axId val="9889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09498"/>
        <c:crosses val="autoZero"/>
        <c:auto val="1"/>
        <c:lblAlgn val="ctr"/>
        <c:lblOffset val="100"/>
        <c:noMultiLvlLbl val="0"/>
      </c:catAx>
      <c:valAx>
        <c:axId val="84309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9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744-06BF-4DA3-903D-59960114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9E1-9354-4853-9AFF-A4124CF7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382-F8AA-4993-B519-BB2C101E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7D3-B723-4511-87AA-3C558FBE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860-0699-4820-8387-ED681D05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7B3-ED8E-4792-A506-4E7275CE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982-367D-4C7D-B1F7-8CDB359E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FDF-0ED5-427C-BC19-B8445715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F2C-B0CD-4093-968E-B4159D7C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360-C48A-431A-9947-7BB4ACC4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809-B9C9-4961-BD91-6AA52C1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FF2-AC0A-4050-8015-BF37017D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64A52-2C5A-4221-97BA-AF7EF0545C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