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67566"/>
        <c:axId val="12223056"/>
      </c:barChart>
      <c:catAx>
        <c:axId val="13567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23056"/>
        <c:crosses val="autoZero"/>
        <c:auto val="1"/>
        <c:lblAlgn val="ctr"/>
        <c:lblOffset val="100"/>
        <c:noMultiLvlLbl val="0"/>
      </c:catAx>
      <c:valAx>
        <c:axId val="12223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67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404-75E1-47AE-B69C-44200353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299-EB09-462E-8DDB-6ED26D6B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64B-69A0-46C6-8530-DEA51042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458-4BF5-45A3-89B3-2B4A49AD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21E-C04B-4074-A2C8-C8E86FF2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36E-79FC-42A2-BB27-16DC0672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E3C-C9FE-46B8-975B-D2A0E746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B29-2FD2-448D-80A5-036511B8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039-F2FF-4F95-BCA5-0C7ABDFE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EEC-548D-4159-BB25-348773E3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DDA-32FF-46E8-8E33-479E0B52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E76-A241-49F6-AE96-6190D873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D75D0-CDD9-4975-9105-9787E8746C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