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229330"/>
        <c:axId val="8245098"/>
      </c:barChart>
      <c:catAx>
        <c:axId val="242293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45098"/>
        <c:crosses val="autoZero"/>
        <c:auto val="1"/>
        <c:lblAlgn val="ctr"/>
        <c:lblOffset val="100"/>
        <c:noMultiLvlLbl val="0"/>
      </c:catAx>
      <c:valAx>
        <c:axId val="82450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2293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4D62-52A0-483C-878F-F0AA0B9D6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8359-A795-4E92-8E9B-B4B87D8EF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438B-3A8A-4696-A878-4BF8EB078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C69C-AC31-47A7-9524-E2418E6D9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7543-C8EE-4E31-A8C4-6A4B3A97F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EAA8-4BFF-4430-8CA9-3F073AF6B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50C6-A202-4D12-8E97-43827F27B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7AFA-20B6-4E0E-96FF-574D14996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CD0F-62E3-44EA-9362-5DB06A812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C39D-5881-4AF5-B18E-B918D43D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7EFA-C188-45CA-9E4B-D730C701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00D3-A836-4656-9F3A-EB948371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7BC3E6-B7D1-410A-8C1F-B23E87A184A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