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89420"/>
        <c:axId val="31744946"/>
      </c:barChart>
      <c:catAx>
        <c:axId val="13389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44946"/>
        <c:crosses val="autoZero"/>
        <c:auto val="1"/>
        <c:lblAlgn val="ctr"/>
        <c:lblOffset val="100"/>
        <c:noMultiLvlLbl val="0"/>
      </c:catAx>
      <c:valAx>
        <c:axId val="31744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89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3A2-116F-4F88-8160-70ED4A5B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EE7-7496-4EA9-BD98-3CB2ABB4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94F-0C84-4B13-8693-A834C910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08E-DBF5-4200-9C7C-CEACDE15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EDC-7A7B-410D-8665-28C29F17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822-2484-4009-AC29-945ECC25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7A1-149D-44C6-850D-4ED5DF2D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F8D-16BB-47E0-A7ED-DC68B5E4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0E0C-C1BB-435E-A9A5-953CA812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ED48-062E-4669-A544-FCCE3B45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30A-5152-45FC-BA81-C80403B4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9BE-791D-4773-9982-994E65AD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C4E4F-70C9-4C9A-989A-05B822C65F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