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873332"/>
        <c:axId val="16631352"/>
      </c:barChart>
      <c:catAx>
        <c:axId val="158733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31352"/>
        <c:crosses val="autoZero"/>
        <c:auto val="1"/>
        <c:lblAlgn val="ctr"/>
        <c:lblOffset val="100"/>
        <c:noMultiLvlLbl val="0"/>
      </c:catAx>
      <c:valAx>
        <c:axId val="166313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733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1B0-7203-4571-BABC-F38FBC06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B74B-EABA-42E8-8E5F-F34B8290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9D34-A323-4AD2-A19E-8A9B973C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1711-5594-463C-AE8A-A8923B1D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0BE9-446D-4678-AD35-D0F98D61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F72C-CD6F-4017-8E73-0F0F68ED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9FF5-7A13-44D6-91C9-0343FD06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79D5-195C-4FC8-B683-4811569F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C3E7-9C12-4201-ACDC-5E6730A2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54E3-77CB-4F50-A872-1A9C3FD1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A036-E9D0-44C5-BFC3-D6C6E623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7036-AF30-4592-837F-CEECC4F3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816B1-AA3F-433C-AAF9-28878D10B4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