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5542751"/>
        <c:axId val="67124006"/>
      </c:barChart>
      <c:catAx>
        <c:axId val="4554275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124006"/>
        <c:crosses val="autoZero"/>
        <c:auto val="1"/>
        <c:lblAlgn val="ctr"/>
        <c:lblOffset val="100"/>
        <c:noMultiLvlLbl val="0"/>
      </c:catAx>
      <c:valAx>
        <c:axId val="6712400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554275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CD0FC-0685-41BA-8F54-852B8747D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EEABB-F837-444B-9077-3BD3C7E78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2E599-8F22-4A66-BDB0-7A9FCB0FB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58758-90E3-47B9-9DFA-F95C11D59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B51F5-F56E-405B-95F5-FAB6E1D05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98FFF-19D3-4A63-9863-157562413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52852-5178-4570-B366-2B773053C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F37DA-C449-433F-A624-03DCB57D2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6EE26-000C-441F-847A-9A94AD4B7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1A597-DCF7-4B33-970F-CC1A64231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15E29-F9B6-47D0-894A-4C5EF357B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59F3D-C20A-456C-9F1C-E8161E5DA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CD674B-25CC-4296-B261-C1527032064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