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12937"/>
        <c:axId val="63061855"/>
      </c:barChart>
      <c:catAx>
        <c:axId val="12112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61855"/>
        <c:crosses val="autoZero"/>
        <c:auto val="1"/>
        <c:lblAlgn val="ctr"/>
        <c:lblOffset val="100"/>
        <c:noMultiLvlLbl val="0"/>
      </c:catAx>
      <c:valAx>
        <c:axId val="630618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12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B5A-2351-4DDA-8D7D-D04F8775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1F8-843C-44EE-AD8B-5D37FA71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FEF-31E0-411F-AFF6-7CF059D6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BCE-B1E6-4C7A-8E74-D40C7902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9A7-02C8-4171-91D6-36030453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B57-E47C-4DA2-8E51-0AED5CD0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F05-0B1B-4F91-8D2A-B0ECF9D1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9D6-BD4A-45C0-B01A-C769CBC8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21-7061-4069-B43F-BF665712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90A-F577-489C-A1F9-8DD75F42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FAC-E46B-491F-83BD-7B8A8B0E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7EE-43DC-4CAB-868F-F81C571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BEDBD-28B0-48CE-AB32-23F69543E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