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0139336"/>
        <c:axId val="44232089"/>
      </c:barChart>
      <c:catAx>
        <c:axId val="2013933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4232089"/>
        <c:crosses val="autoZero"/>
        <c:auto val="1"/>
        <c:lblAlgn val="ctr"/>
        <c:lblOffset val="100"/>
        <c:noMultiLvlLbl val="0"/>
      </c:catAx>
      <c:valAx>
        <c:axId val="44232089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013933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01E95-14A4-43B7-ADCD-195399E8AD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76107-3487-4FF7-8518-3DCDB4471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45AD-08E3-4049-A2C6-844FBACB6F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8CC7E-498F-4017-9B98-AEEBC35D5C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8F35A-DB3A-44EA-A1EF-C2FF05C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955DB2-4907-4AB1-894C-AB16B9255E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74F97-07CF-469A-905C-F92AEB311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B4EBF-CE54-4009-B10C-EE4440778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9FC5B-3D08-4509-BFF7-E7A6426B8A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F6CFEB-FAE8-44E3-B0C1-A893A87740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A0A4-8848-4B15-A0CB-23D647BE26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C439F-AFA3-4029-9D5E-9F03EA98F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A1572C-81AC-41F7-8808-15BC0EC67F9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