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75357"/>
        <c:axId val="53431002"/>
      </c:barChart>
      <c:catAx>
        <c:axId val="61175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31002"/>
        <c:crosses val="autoZero"/>
        <c:auto val="1"/>
        <c:lblAlgn val="ctr"/>
        <c:lblOffset val="100"/>
        <c:noMultiLvlLbl val="0"/>
      </c:catAx>
      <c:valAx>
        <c:axId val="53431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75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D46-00F1-41EF-AA84-60AA2ED5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B4C-623D-4873-90CE-8C79FB0D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DEB-0783-4E60-94F9-6F225C7D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6B0-C7AE-4D09-9D5B-B78F1102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1F7-E4F2-4E1B-A7F0-DB74D4D1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E0F-BBC3-4A35-BC6F-A51279D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787-F028-454B-8D00-878314BD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E2E-FA00-4267-BB4B-D90BCA3C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58B-5D9D-405C-B37B-3F4BF0C1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665-8624-4511-93BD-0BE57C7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2B7-D44E-4256-A2D5-1BC58AF6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9A6-0FB2-4631-A550-9947E899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27289-1C2D-4824-9BD1-8E959CC296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