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91882"/>
        <c:axId val="33635867"/>
      </c:barChart>
      <c:catAx>
        <c:axId val="30591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35867"/>
        <c:crosses val="autoZero"/>
        <c:auto val="1"/>
        <c:lblAlgn val="ctr"/>
        <c:lblOffset val="100"/>
        <c:noMultiLvlLbl val="0"/>
      </c:catAx>
      <c:valAx>
        <c:axId val="33635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1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410-3E09-492B-8DDB-AACEE7F2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A68-664F-44DD-BAA4-8F770542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B23-936B-40E1-AE37-83303D22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CE5-5686-41C6-BE7E-353F1166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498-AEAA-44EB-B208-0A68ECC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00B-1D96-4924-922E-DEF794C5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552-F723-4613-BD2E-4544A2A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06A-4FD1-477A-A67F-04E2BDFA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DA0-84D4-4AA5-82B5-7DDE69DB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696-8732-4BD5-AC67-79B26867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DDC-A784-46FE-B1B6-2FB46846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BC8-70D0-4A19-AE06-BD9DC8E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47A6F-01F7-428E-A143-EC6A0A745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