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25975"/>
        <c:axId val="89479041"/>
      </c:barChart>
      <c:catAx>
        <c:axId val="11125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9041"/>
        <c:crosses val="autoZero"/>
        <c:auto val="1"/>
        <c:lblAlgn val="ctr"/>
        <c:lblOffset val="100"/>
        <c:noMultiLvlLbl val="0"/>
      </c:catAx>
      <c:valAx>
        <c:axId val="89479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25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A1D-50A7-4BAF-B097-F58511C3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248-3B20-43E0-8E20-1FFC7811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DE4-A479-4FEA-8C3C-6210840A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D31-79FF-40D9-8663-45F4748D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E14-E53E-4571-BDFC-818E52CC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D14-C364-431D-B23B-25E3DA78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C6E-011C-4AE4-A79F-6021515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E51-313F-4DA5-A61F-D15B0CC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6DD-46DD-4D52-A9E1-E1122A3F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CD6-424C-4A1D-B446-51E52CE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C06-695B-4A19-85AC-21C4757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FB3-F27D-4D05-BD6B-E7495B4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1BA7-5575-4059-A4B7-B804C60B30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