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58722"/>
        <c:axId val="20100784"/>
      </c:barChart>
      <c:catAx>
        <c:axId val="98258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00784"/>
        <c:crosses val="autoZero"/>
        <c:auto val="1"/>
        <c:lblAlgn val="ctr"/>
        <c:lblOffset val="100"/>
        <c:noMultiLvlLbl val="0"/>
      </c:catAx>
      <c:valAx>
        <c:axId val="20100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8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CB1-144A-4E97-BA6B-C8C68ACC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5C3-5E68-47BC-91BE-AB6BD43E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13C-E2CF-4575-BE4A-D51FCADD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C24-5709-4A8F-ACD9-66E853B2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759-BAA3-48EE-AA88-1DACEE3D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1F2-41E3-471A-A30C-A578ECFC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FEA-28DB-4D4A-806C-0F76487A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775-9D57-4CE5-A6F7-4BA5B183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FD5-8857-4BC7-B1C9-07ECD09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EE2-EE6E-480B-89F2-F760FEE8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5F1-22A8-488A-9338-D4F68F8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2EB-C56D-43B5-B782-D2000859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BFF62-22C7-47F8-870C-C6F5E4E932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