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665384"/>
        <c:axId val="3090771"/>
      </c:barChart>
      <c:catAx>
        <c:axId val="156653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90771"/>
        <c:crosses val="autoZero"/>
        <c:auto val="1"/>
        <c:lblAlgn val="ctr"/>
        <c:lblOffset val="100"/>
        <c:noMultiLvlLbl val="0"/>
      </c:catAx>
      <c:valAx>
        <c:axId val="30907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6653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FEB-B353-4099-BB9C-815FB23A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0D8A-B545-4407-9E4B-470FB6719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5F41-68D8-4B2E-8CF4-C9A267720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4335-5278-4C6C-B81C-EE2654236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ED5F-8590-4D8E-A449-B1DF6FF5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5F26-F9B4-4891-8578-71E923EE6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6DB7-D0B9-4DEA-9BB5-CA1FEE180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4A9F-B18B-4E56-81FE-609751914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D36-B51D-44E6-BA8A-F532FB295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17E3-E360-405C-8CE4-17569F5F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2B8E-A79D-4E45-A807-E588FAFC6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382A-B225-4A73-BF5E-638BA086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AF680-AFFE-458B-8867-2FD7260C97E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